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875-C366-4399-BA5F-0A24D8D1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731-B658-4726-825B-1070C687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E92-2D8D-456A-B154-CCC0FB99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198-443E-4FCD-8644-BC73D676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1ED69-E6B8-4445-A8B1-CF33384D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0D236-BEFF-459B-91B3-AC1FC4BD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F9B39-8A80-45A8-9AFD-CC231F56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4A000-8952-4F5F-8A62-01FF2C24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6F6C5-3A86-4036-860A-4B8AF39C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E9E3F-7096-4609-8A29-D4A15BA6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AAFD0-3252-46BE-BD32-84A1198C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A63-F600-438D-9061-B4F71B07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3CA95-02D1-4C1A-B838-DCF33C1D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33431-F05B-42B4-B8B3-7EDD667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451E0-DAD1-4847-9BD7-65600719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37C58-095B-49B3-9B22-620610EE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B96EC-7B3C-4D14-9E14-60C59996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449-6FA8-4474-ACE0-EC9B5BEE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367-5F85-45DA-9042-C6A7C59C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E58-6E09-4E2C-A732-F34B4ABF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F63-4CB8-4E69-A527-22154D9C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971-6B67-46E8-9BCE-A7FD88A7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4C7-8C1C-44E7-BF80-A7A44414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740-8E57-41C1-9D56-A7430765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A0ED-B930-4F14-97CC-DACA8106AC96}" type="slidenum">
              <a: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CBBB-1DC6-4FC5-98FC-CEFCFE22942E}" type="slidenum">
              <a: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  <a:ea typeface="新細明體"/>
              </a:rPr>
              <a:t>German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Arial"/>
              <a:ea typeface="新細明體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新細明體"/>
              </a:rPr>
              <a:t>Basic F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Legal Name: Federal Republic of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Population: 82,400,99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apital: Ber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rea: 137,803 squ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m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Located in Central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7622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新細明體"/>
              </a:rPr>
              <a:t>Terra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In the north- low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In the center- Up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In the South- Bavarian Al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72200" y="762120"/>
            <a:ext cx="2579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新細明體"/>
              </a:rPr>
              <a:t>Clim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Temperate 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Marine 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lo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3156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新細明體"/>
              </a:rPr>
              <a:t>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Federal Re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of government: Chancellor Angela Merk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24280" y="3352680"/>
            <a:ext cx="27464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4% Prote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4% Roman Catho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7% Musl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8% Unaffiliated/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5:40:48Z</dcterms:created>
  <dc:creator>hedleymyers</dc:creator>
  <dc:description/>
  <dc:language>en-US</dc:language>
  <cp:lastModifiedBy>Hedley</cp:lastModifiedBy>
  <dcterms:modified xsi:type="dcterms:W3CDTF">2009-03-12T02:07:23Z</dcterms:modified>
  <cp:revision>4</cp:revision>
  <dc:subject/>
  <dc:title>Germany</dc:title>
</cp:coreProperties>
</file>